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67D9-0843-44E9-BCD9-E664923E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824-9E16-4906-A525-8C118A11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AEA-063C-43EB-A179-ED277DB1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35E-3E4B-4A9B-A08F-68FBA93B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629A-5DB3-4566-8D8F-7A40E783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FBAF-2467-4A31-B3BC-07B3B2DE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2253-C66D-477C-837B-27EFF366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E2FB-D3FF-4850-8F42-82636497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6B6E-65AC-4BC9-8CC0-70789183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340E-B67A-4A9F-86EC-970E478A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0FE3-9145-4214-A7AB-CCDD5EEF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D04-502D-4CC1-85D2-ACBE07C4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A9CD-B00C-4575-92A3-FEA35679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3F9C-5C93-4407-A5A3-BB250E50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3658-313F-416B-B46A-819A23DD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AD74-C750-4637-BFB5-429975FB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59EB-CEFA-4055-B4DF-BF6C909E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0BE-7EB4-47E6-9E41-0960B5E3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F7B-3F09-41F2-BF3E-E0A89E0E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121-5420-4602-A1B7-60A41BF0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C3B4-1A7E-473A-BC39-71F5DCD4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801-FF30-4667-9178-F3C5DA41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2956-A8EE-4838-9D0C-251F639E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0993-1669-423F-AAFF-00859CD7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4BFA-C657-4FBC-8329-1F3256E16A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" y="2438280"/>
            <a:ext cx="9147240" cy="1063800"/>
            <a:chOff x="-36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" y="2479680"/>
              <a:ext cx="9147240" cy="1012320"/>
              <a:chOff x="-36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9140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5304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340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364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884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5128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9300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640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640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808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328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50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672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8156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215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660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72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8244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488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72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72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4A31-D3D8-4014-A992-D1D93CDD1E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X014" descr="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607440" y="380880"/>
            <a:ext cx="164268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彩云"/>
                <a:ea typeface="华文彩云"/>
              </a:rPr>
              <a:t>面向世界    面向未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38080" y="0"/>
            <a:ext cx="830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:What a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old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day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:Yes, but it`s going to                       get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older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, I`m afrai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327672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hot                     hot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41148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wet                     wet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52578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windy                wind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01120" y="450720"/>
            <a:ext cx="68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Talk about weat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286200" y="2523960"/>
            <a:ext cx="1044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A: </a:t>
            </a:r>
            <a:r>
              <a:rPr b="1" lang="en-US" sz="4800" spc="-1" strike="noStrike">
                <a:solidFill>
                  <a:srgbClr val="0000ff"/>
                </a:solidFill>
                <a:latin typeface="Abadi MT Condensed Light"/>
              </a:rPr>
              <a:t>What`s the weather like today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B: </a:t>
            </a:r>
            <a:r>
              <a:rPr b="1" lang="en-US" sz="4800" spc="-1" strike="noStrike">
                <a:solidFill>
                  <a:srgbClr val="0000ff"/>
                </a:solidFill>
                <a:latin typeface="Abadi MT Condensed Light"/>
              </a:rPr>
              <a:t>It`s</a:t>
            </a: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r>
              <a:rPr b="1" lang="en-US" sz="4800" spc="-1" strike="noStrike">
                <a:solidFill>
                  <a:srgbClr val="660066"/>
                </a:solidFill>
                <a:latin typeface="Abadi MT Condensed Light"/>
              </a:rPr>
              <a:t>cold/hot/dry/wet/rainy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badi MT Condensed Light"/>
              </a:rPr>
              <a:t>    </a:t>
            </a:r>
            <a:r>
              <a:rPr b="1" lang="en-US" sz="4800" spc="-1" strike="noStrike">
                <a:solidFill>
                  <a:srgbClr val="660066"/>
                </a:solidFill>
                <a:latin typeface="Abadi MT Condensed Light"/>
              </a:rPr>
              <a:t>sunny/cloudy/win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14400" y="0"/>
            <a:ext cx="79246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       wind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d      cloud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       rain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now       snow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        sun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48769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n. </a:t>
            </a:r>
            <a:r>
              <a:rPr b="0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49528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ad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2743200" cy="486000"/>
          </a:xfrm>
          <a:prstGeom prst="rightArrow">
            <a:avLst>
              <a:gd name="adj1" fmla="val 50000"/>
              <a:gd name="adj2" fmla="val 14111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05280" y="1905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28960" y="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09840" y="9907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28960" y="28195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3657600"/>
            <a:ext cx="99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10058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rite the correct adj. In the blan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:    What heavy </a:t>
            </a:r>
            <a:r>
              <a:rPr b="1" i="1" lang="en-US" sz="4400" spc="-1" strike="noStrike">
                <a:solidFill>
                  <a:srgbClr val="0000ff"/>
                </a:solidFill>
                <a:latin typeface="Abadi MT Condensed Light"/>
              </a:rPr>
              <a:t>ra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!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`s very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badi MT Condensed Light"/>
              </a:rPr>
              <a:t>rain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to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19051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ok at the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su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!  It`s very               toda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1905120"/>
            <a:ext cx="180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sunn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3124080"/>
            <a:ext cx="9448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ok at the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clou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 It`s very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da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2971800"/>
            <a:ext cx="182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45720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a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win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! It`s very               to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45720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5943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ok at the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ra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 It`s a very              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579132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 rot="10800000">
            <a:off x="1143000" y="-7632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-228960"/>
            <a:ext cx="822960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u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s shin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there ar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oud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it is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ain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it is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now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in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s blow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4572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1905120"/>
            <a:ext cx="175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3276720"/>
            <a:ext cx="16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4800600"/>
            <a:ext cx="175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sno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6033960"/>
            <a:ext cx="1523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badi MT Condensed Light"/>
              </a:rPr>
              <a:t>wi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n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badi MT Condensed Light"/>
              </a:rPr>
              <a:t>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X023" descr="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204200" y="1044720"/>
            <a:ext cx="342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Bye-by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27160" y="4865760"/>
            <a:ext cx="474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2 0 0 2 </a:t>
            </a: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年 </a:t>
            </a: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3 </a:t>
            </a: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X002" descr=""/>
          <p:cNvPicPr/>
          <p:nvPr/>
        </p:nvPicPr>
        <p:blipFill>
          <a:blip r:embed="rId1"/>
          <a:stretch/>
        </p:blipFill>
        <p:spPr>
          <a:xfrm>
            <a:off x="762120" y="-1440"/>
            <a:ext cx="8381880" cy="6859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46840" y="915840"/>
            <a:ext cx="693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ff33"/>
                </a:solidFill>
                <a:latin typeface="Times New Roman"/>
              </a:rPr>
              <a:t>          </a:t>
            </a:r>
            <a:r>
              <a:rPr b="1" i="1" lang="en-US" sz="6600" spc="-1" strike="noStrike">
                <a:solidFill>
                  <a:srgbClr val="66ff33"/>
                </a:solidFill>
                <a:latin typeface="Times New Roman"/>
              </a:rPr>
              <a:t>What’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6600" spc="-1" strike="noStrike">
                <a:solidFill>
                  <a:srgbClr val="66ff33"/>
                </a:solidFill>
                <a:latin typeface="Times New Roman"/>
              </a:rPr>
              <a:t>the  weather  lik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6960" y="3962520"/>
            <a:ext cx="544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66"/>
                </a:solidFill>
                <a:latin typeface="Times New Roman"/>
                <a:ea typeface="幼圆"/>
              </a:rPr>
              <a:t>松阳县阳溪初中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66"/>
                </a:solidFill>
                <a:latin typeface="Times New Roman"/>
                <a:ea typeface="幼圆"/>
              </a:rPr>
              <a:t>       </a:t>
            </a:r>
            <a:r>
              <a:rPr b="1" i="1" lang="zh-CN" sz="4800" spc="-1" strike="noStrike">
                <a:solidFill>
                  <a:srgbClr val="ffff66"/>
                </a:solidFill>
                <a:latin typeface="Times New Roman"/>
                <a:ea typeface="幼圆"/>
              </a:rPr>
              <a:t>周  俏  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52600" y="594360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-mail:  zhouqia0680@sina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0" r="10894" b="0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29200" y="1981080"/>
            <a:ext cx="2057400" cy="190512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434880 h 1905120"/>
              <a:gd name="textAreaBottom" fmla="*/ 14702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4267080"/>
            <a:ext cx="2666880" cy="1371600"/>
          </a:xfrm>
          <a:prstGeom prst="cloudCallout">
            <a:avLst>
              <a:gd name="adj1" fmla="val 6430"/>
              <a:gd name="adj2" fmla="val 47800"/>
            </a:avLst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90720"/>
            <a:ext cx="2438280" cy="1857240"/>
          </a:xfrm>
          <a:prstGeom prst="rightArrow">
            <a:avLst>
              <a:gd name="adj1" fmla="val 50000"/>
              <a:gd name="adj2" fmla="val 32821"/>
            </a:avLst>
          </a:prstGeom>
          <a:solidFill>
            <a:srgbClr val="2bd1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方正大黑简体"/>
                <a:ea typeface="方正大黑简体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53280" y="990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1880" y="137160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762120"/>
            <a:ext cx="2057400" cy="167616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382680 h 1676160"/>
              <a:gd name="textAreaBottom" fmla="*/ 129348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方正大黑简体"/>
                <a:ea typeface="方正大黑简体"/>
              </a:rPr>
              <a:t>sno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5181480"/>
            <a:ext cx="914400" cy="9144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5257800"/>
            <a:ext cx="914400" cy="9144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5410080"/>
            <a:ext cx="914400" cy="9144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5029200"/>
            <a:ext cx="2286000" cy="16002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0" t="0" r="10894" b="0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924680" y="1600200"/>
            <a:ext cx="1219320" cy="609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6095880"/>
            <a:ext cx="12189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2895480"/>
            <a:ext cx="1371600" cy="838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d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4419720"/>
            <a:ext cx="1981080" cy="914400"/>
          </a:xfrm>
          <a:prstGeom prst="ellipse">
            <a:avLst/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4038480"/>
            <a:ext cx="175248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96080" y="5715000"/>
            <a:ext cx="1295640" cy="8380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2514600"/>
            <a:ext cx="190512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447920"/>
            <a:ext cx="1905120" cy="914400"/>
          </a:xfrm>
          <a:prstGeom prst="ellipse">
            <a:avLst/>
          </a:prstGeom>
          <a:solidFill>
            <a:srgbClr val="2bd1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5715000"/>
            <a:ext cx="1447920" cy="609480"/>
          </a:xfrm>
          <a:prstGeom prst="wedgeEllipseCallout">
            <a:avLst>
              <a:gd name="adj1" fmla="val 90129"/>
              <a:gd name="adj2" fmla="val -13437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clo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3505320"/>
            <a:ext cx="1447920" cy="609480"/>
          </a:xfrm>
          <a:prstGeom prst="wedgeEllipseCallout">
            <a:avLst>
              <a:gd name="adj1" fmla="val -67763"/>
              <a:gd name="adj2" fmla="val 6171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762120"/>
            <a:ext cx="1371600" cy="609480"/>
          </a:xfrm>
          <a:prstGeom prst="wedgeEllipseCallout">
            <a:avLst>
              <a:gd name="adj1" fmla="val 54513"/>
              <a:gd name="adj2" fmla="val 243231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su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1828800"/>
            <a:ext cx="1143000" cy="609480"/>
          </a:xfrm>
          <a:prstGeom prst="wedgeEllipseCallout">
            <a:avLst>
              <a:gd name="adj1" fmla="val -128055"/>
              <a:gd name="adj2" fmla="val -29166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wi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3429000" y="0"/>
            <a:ext cx="23623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  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5181480" y="15238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38240" y="1905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38240" y="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39280" y="9144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2819520"/>
            <a:ext cx="99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d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</a:t>
            </a: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</a:t>
            </a: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457200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        ho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dry          w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KT029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1806480" cy="3047760"/>
          </a:xfrm>
          <a:prstGeom prst="rect">
            <a:avLst/>
          </a:prstGeom>
          <a:ln w="0">
            <a:noFill/>
          </a:ln>
        </p:spPr>
      </p:pic>
      <p:pic>
        <p:nvPicPr>
          <p:cNvPr id="165" name="KT025" descr=""/>
          <p:cNvPicPr/>
          <p:nvPr/>
        </p:nvPicPr>
        <p:blipFill>
          <a:blip r:embed="rId2"/>
          <a:stretch/>
        </p:blipFill>
        <p:spPr>
          <a:xfrm>
            <a:off x="7010280" y="838080"/>
            <a:ext cx="17258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9880" y="0"/>
            <a:ext cx="734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:What`s the date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:It`s Dec. 21st, 2001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:What`s the weather like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:It`s 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very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col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2971800"/>
            <a:ext cx="16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badi MT Condensed Light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Abadi MT Condensed Light"/>
              </a:rPr>
              <a:t>qu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2971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312408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297180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29718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30481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04812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312408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cloudy" descr=""/>
          <p:cNvPicPr/>
          <p:nvPr/>
        </p:nvPicPr>
        <p:blipFill>
          <a:blip r:embed="rId1"/>
          <a:stretch/>
        </p:blipFill>
        <p:spPr>
          <a:xfrm>
            <a:off x="4191120" y="3878280"/>
            <a:ext cx="4724280" cy="2674800"/>
          </a:xfrm>
          <a:prstGeom prst="rect">
            <a:avLst/>
          </a:prstGeom>
          <a:ln w="0">
            <a:noFill/>
          </a:ln>
        </p:spPr>
      </p:pic>
      <p:pic>
        <p:nvPicPr>
          <p:cNvPr id="176" name="cold" descr=""/>
          <p:cNvPicPr/>
          <p:nvPr/>
        </p:nvPicPr>
        <p:blipFill>
          <a:blip r:embed="rId2"/>
          <a:stretch/>
        </p:blipFill>
        <p:spPr>
          <a:xfrm>
            <a:off x="4191120" y="3962520"/>
            <a:ext cx="4724280" cy="2590560"/>
          </a:xfrm>
          <a:prstGeom prst="rect">
            <a:avLst/>
          </a:prstGeom>
          <a:ln w="0">
            <a:noFill/>
          </a:ln>
        </p:spPr>
      </p:pic>
      <p:pic>
        <p:nvPicPr>
          <p:cNvPr id="177" name="dry" descr=""/>
          <p:cNvPicPr/>
          <p:nvPr/>
        </p:nvPicPr>
        <p:blipFill>
          <a:blip r:embed="rId3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78" name="hot" descr=""/>
          <p:cNvPicPr/>
          <p:nvPr/>
        </p:nvPicPr>
        <p:blipFill>
          <a:blip r:embed="rId4"/>
          <a:stretch/>
        </p:blipFill>
        <p:spPr>
          <a:xfrm>
            <a:off x="4343400" y="3962520"/>
            <a:ext cx="4495680" cy="2514600"/>
          </a:xfrm>
          <a:prstGeom prst="rect">
            <a:avLst/>
          </a:prstGeom>
          <a:ln w="0">
            <a:noFill/>
          </a:ln>
        </p:spPr>
      </p:pic>
      <p:pic>
        <p:nvPicPr>
          <p:cNvPr id="179" name="rainy" descr=""/>
          <p:cNvPicPr/>
          <p:nvPr/>
        </p:nvPicPr>
        <p:blipFill>
          <a:blip r:embed="rId5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80" name="snowy" descr=""/>
          <p:cNvPicPr/>
          <p:nvPr/>
        </p:nvPicPr>
        <p:blipFill>
          <a:blip r:embed="rId6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81" name="sunny" descr=""/>
          <p:cNvPicPr/>
          <p:nvPr/>
        </p:nvPicPr>
        <p:blipFill>
          <a:blip r:embed="rId7"/>
          <a:stretch/>
        </p:blipFill>
        <p:spPr>
          <a:xfrm>
            <a:off x="4267080" y="4038480"/>
            <a:ext cx="4572000" cy="2438640"/>
          </a:xfrm>
          <a:prstGeom prst="rect">
            <a:avLst/>
          </a:prstGeom>
          <a:ln w="0">
            <a:noFill/>
          </a:ln>
        </p:spPr>
      </p:pic>
      <p:pic>
        <p:nvPicPr>
          <p:cNvPr id="182" name="wet" descr=""/>
          <p:cNvPicPr/>
          <p:nvPr/>
        </p:nvPicPr>
        <p:blipFill>
          <a:blip r:embed="rId8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83" name="windy" descr=""/>
          <p:cNvPicPr/>
          <p:nvPr/>
        </p:nvPicPr>
        <p:blipFill>
          <a:blip r:embed="rId9"/>
          <a:stretch/>
        </p:blipFill>
        <p:spPr>
          <a:xfrm>
            <a:off x="4267080" y="3886200"/>
            <a:ext cx="4572000" cy="2590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10240" y="3124080"/>
            <a:ext cx="167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now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KT010" descr=""/>
          <p:cNvPicPr/>
          <p:nvPr/>
        </p:nvPicPr>
        <p:blipFill>
          <a:blip r:embed="rId10"/>
          <a:stretch/>
        </p:blipFill>
        <p:spPr>
          <a:xfrm>
            <a:off x="1066680" y="4495680"/>
            <a:ext cx="166536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0" t="0" r="10894" b="0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924680" y="1600200"/>
            <a:ext cx="1219320" cy="609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6095880"/>
            <a:ext cx="12189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895480"/>
            <a:ext cx="1371600" cy="838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d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4419720"/>
            <a:ext cx="1981440" cy="914400"/>
          </a:xfrm>
          <a:prstGeom prst="ellipse">
            <a:avLst/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4038480"/>
            <a:ext cx="175248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5715000"/>
            <a:ext cx="1295640" cy="8380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190512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447920"/>
            <a:ext cx="1905120" cy="914400"/>
          </a:xfrm>
          <a:prstGeom prst="ellipse">
            <a:avLst/>
          </a:prstGeom>
          <a:solidFill>
            <a:srgbClr val="2bd1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838080"/>
            <a:ext cx="1828800" cy="609840"/>
          </a:xfrm>
          <a:prstGeom prst="wedgeEllipseCallout">
            <a:avLst>
              <a:gd name="adj1" fmla="val 62847"/>
              <a:gd name="adj2" fmla="val 1013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col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6172200"/>
            <a:ext cx="1295280" cy="609480"/>
          </a:xfrm>
          <a:prstGeom prst="wedgeEllipseCallout">
            <a:avLst>
              <a:gd name="adj1" fmla="val 116175"/>
              <a:gd name="adj2" fmla="val 1041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hot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3657600"/>
            <a:ext cx="1371600" cy="762120"/>
          </a:xfrm>
          <a:prstGeom prst="wedgeEllipseCallout">
            <a:avLst>
              <a:gd name="adj1" fmla="val 135416"/>
              <a:gd name="adj2" fmla="val -562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dr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5334120"/>
            <a:ext cx="1752480" cy="609480"/>
          </a:xfrm>
          <a:prstGeom prst="wedgeEllipseCallout">
            <a:avLst>
              <a:gd name="adj1" fmla="val 95925"/>
              <a:gd name="adj2" fmla="val -8906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cloud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3124080"/>
            <a:ext cx="1447920" cy="762120"/>
          </a:xfrm>
          <a:prstGeom prst="wedgeEllipseCallout">
            <a:avLst>
              <a:gd name="adj1" fmla="val -25000"/>
              <a:gd name="adj2" fmla="val 116041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adi MT Condensed Light"/>
              </a:rPr>
              <a:t>rain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5410080"/>
            <a:ext cx="1523880" cy="762120"/>
          </a:xfrm>
          <a:prstGeom prst="wedgeEllipseCallout">
            <a:avLst>
              <a:gd name="adj1" fmla="val 69898"/>
              <a:gd name="adj2" fmla="val 36666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wet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523880"/>
            <a:ext cx="2133720" cy="609840"/>
          </a:xfrm>
          <a:prstGeom prst="wedgeEllipseCallout">
            <a:avLst>
              <a:gd name="adj1" fmla="val 69120"/>
              <a:gd name="adj2" fmla="val 15234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sunn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762120"/>
            <a:ext cx="2133360" cy="609480"/>
          </a:xfrm>
          <a:prstGeom prst="wedgeEllipseCallout">
            <a:avLst>
              <a:gd name="adj1" fmla="val -93078"/>
              <a:gd name="adj2" fmla="val 9921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wind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18800" y="0"/>
            <a:ext cx="2442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d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r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d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n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n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d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14560" y="0"/>
            <a:ext cx="2977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dr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d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90720" y="762120"/>
            <a:ext cx="7805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old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it is today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:Yes, but it`s going t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armer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later 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495288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wet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                    dr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38862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hot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                     cool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9436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cloudy                 sunn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04:50:50Z</dcterms:created>
  <dc:creator>lp</dc:creator>
  <dc:description/>
  <dc:language>en-US</dc:language>
  <cp:lastModifiedBy>sywzmin</cp:lastModifiedBy>
  <dcterms:modified xsi:type="dcterms:W3CDTF">2002-04-03T14:59:32Z</dcterms:modified>
  <cp:revision>37</cp:revision>
  <dc:subject/>
  <dc:title>没有幻灯片标题</dc:title>
</cp:coreProperties>
</file>